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459-1515-4430-BD86-011CA564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05BE-C550-4FC5-817E-BB342686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BD48D-B3A5-41C5-B63A-C69D9AE1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0D9B0-DFAA-4A5A-AA68-EB474ADA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D9FA3-A2B0-46EA-A11D-96A69056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6D725-AEE4-481D-AAE6-A444C634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5C624-A48A-48E0-95FE-9370BFF4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33485-495B-42E9-B38A-69433B6C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01407-0867-47FA-9D55-C7C6ACAC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9106B-68AD-481D-8CBB-9B1A07E2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9E093-845A-4246-8DFF-3CF1F007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137B7-BC2E-46FE-BDD2-E43F9A51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76DE-DB5E-4BF8-8CE6-9F87A8B0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CC69D-D2BD-4B48-A218-F18D64EF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F97D5-4DFC-4EF7-BF7D-BE99709B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C9F63-0586-4F81-94BD-032F8081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7E8CA-DC34-49E0-8C88-4C768BA3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73395-D6E6-4B99-8686-2A68A51C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F0CB3-F170-43A4-8328-3C07AE67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98AF8-BFE3-4171-9719-3718B444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D0FA5-1B42-4E0E-9D20-DCB280C6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10BFE-E866-4934-B822-180D212D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EBE00-D1C9-46C7-81FD-28E369EA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183-5A00-4CD1-BE61-B669E176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0F5CA-F375-46F1-B478-6931F380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A53D0-91E4-4501-9C34-4AAFE164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BE92D-0590-4AF4-9D2B-793CCD66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8EBE1-B5A3-4ECD-94FD-DE46B7E2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8BE96-BF13-4295-8C02-2F91BC86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28430-A016-4F2F-89B7-CB24936D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87B64-174C-4FED-8097-F7526620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574D1-8B3E-4D8C-9044-8D875E15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DC8FF-5140-40DD-A95C-4F7C3832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A7FD8-4A25-42EF-A1C6-E8259FE7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2BAF-9284-4EE5-875C-3BA578EE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5B9B4-FB18-4B07-92D8-33483405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28048-9D41-4B87-A9F3-A2547421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A4D4B-CB06-420A-AE7F-7D5C7C78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2FC46-2528-4ECB-93D0-F12C1540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01B41-241D-42E9-A944-C4AE94D6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A168A-CCC9-4EC3-89B6-6A249343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C0A34-7336-4EE9-A5E0-E53DD8AD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0F22A-957A-44EF-9DF8-0AFB2CA8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B8859-83FA-4A89-B8CD-29675DBE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3387E-97A6-4D16-A23A-999791DC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5B61-E36B-4F4B-A8C0-DE356B99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CA8E6-68A4-4624-95A3-664C03A6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334FA-9432-49FD-ADE2-717F815D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F79D7-6030-4843-AE77-3559148F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86B64-9D8D-4259-BA3D-349006DC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22E76-AE84-4B28-A008-79D19CF3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DC7CC-5A37-4810-B837-814BB0FC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69ED5-DB13-47AE-8EEB-92C089B1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9B218A-9E15-4598-9200-633B9BD7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77B19-228D-4BF8-B03F-9C508163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B9EFC-B3AB-4A82-847D-32DD8771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DF16-1FE4-4DC6-BC53-D3B6F762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C8E7B0-E394-4FC1-A35C-04029FDA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F736A-CDBD-406D-86B9-6CDEFF50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EF891-7455-4575-9E75-ECABE2A5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6D450-69F1-4D2C-9AD8-B424760B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B75D5C-C8E2-4BDB-8BBD-7B5E4B1E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CCE37-72A5-4E5C-8A25-AF7BAB0C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920082-E351-41C8-8583-17AB6FFD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B5CB8C-B084-48C6-A7C6-A4D19091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E0A780-7F9D-4231-9B9B-690A8BFC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25B965-9EE2-4B72-B1BE-2DA95C9F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3D4A-A6B7-47CF-BA17-FAF70338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603431-BA9F-4FED-8555-956794FE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BC87E-8345-4656-AA51-EDF1B6B3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609AE-3B1F-4A21-9A97-E3CC7CE6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DF1F1F-109D-41EA-B1C0-6C93DCBE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3580BB-75DB-4CC7-A3E8-118DEB5D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1AED6-D91B-4EA4-8F9C-40A43CE7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375A4-3EFE-4D2A-904A-59128CB2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666B3-3D45-428F-A64A-7614545F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D0760-3E13-4A0A-A877-0CE23E2F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6BAD0-6F8E-4445-8E81-8513B206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F910-1B47-4477-A9DA-E2743B04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D8968B-2A28-4AD3-A3F6-D68BB400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29DD77-74F2-4263-A403-CAEAFD1A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470231-B351-4605-BAD5-7C544E37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3E671E-244C-4B44-BC95-FA6D9013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92D020-A0D3-4F9A-B3FC-4E65B47D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717ED5-0758-4222-A5A2-933549CF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192977-D266-4739-8525-719BFA54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3346C4-2CCF-458C-A9FA-45F167AB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CCDC95-D692-48A8-BACB-F2F3BCEA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2CE65D-B2FE-44FD-B6A3-0F539064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941F-7E13-4057-9541-F8F521A2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7EB49-77B6-4F3F-A0BD-5D8E5336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C1BDB5-A01A-4438-93D0-C725DEEA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58DA3-F864-4F05-8681-30417263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8B29B8-6C3D-4B97-80C2-D01FB8E1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7C13A-E301-4432-AD6B-4EF241F0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FBE37-725E-4730-8A91-D7DBFAE7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4C9522-4C3D-4ACE-80C9-0484502D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707C39-8964-4C4F-914F-5A60F2FE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69288-4848-4949-94B0-115D3DEF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07FB17-D256-4024-846F-E344AA44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5F2B-AAA5-4122-A0E9-9CF8B49B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7A280E-8EBD-4004-92A9-580F96B6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A1338A-2176-48A0-951E-E10F876A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6A9D6-F2BF-43A0-8570-35DAC747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DCF4D-98F8-4CAC-BDD5-50EDBA6E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10710C-4774-4626-AD52-54ED20AF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3C65D7-5D61-455D-B3A4-2098B042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C4D1EB-1943-4CB8-84F6-869518A2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1BB9FA-17C1-439E-88F9-4F0BAEB3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37FBF3-ADC4-404E-80D9-52B0478B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212243-A8B7-457C-92C8-311B7FF6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761-1B82-4608-9324-A8D29776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C8C4-F2F1-4DA0-BC2A-CB601FC2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5A540D-15B6-48B8-86C0-5051F207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63AB3-9132-4606-82CE-909924F7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21790A-B4C6-4891-BA56-514AB373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CAE7E3-CAEF-47E6-BD6B-757102C9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20CB38-F496-456B-9DA9-0621FDA5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E7AF72-BF24-4106-AEEB-6E291829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92BDE-4BE9-4393-91DD-0E90829C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9388BB-9720-4AF1-8F3C-D51D3ADD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F432A6-3ABB-4B6C-A72B-1487935B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75BF7C-3AAA-4A3A-90B0-600698D7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2802-09D8-4071-9CBB-5FC64B4C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7BA946-08C7-49F2-8099-F03CD58E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6FBC20-BC6A-4587-90B5-C9ED87A7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91AF55-AE41-4501-94B8-D581F45F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0E9B8-E823-431D-A8D4-987CC98B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019E69-2796-4A4F-B656-73F71B47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6F2BD6-B55A-454F-8387-4971EAF9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A0B7C8-D1E4-4D62-AFA5-BF9A40C0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8EAE5C-FCAB-440C-A09E-E03EA5A1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6B6015-EC13-4A5B-9683-844B6910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3705BB-B49B-47C3-AEFD-44436709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6B46-B19A-47C2-BDED-458117D0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ED761F-E4C8-4BC1-93AC-8A8D6955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31AA2-46A2-4F12-9980-47D2D8C9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89852A-1494-4774-915F-C586653C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FA0859-71C3-4A60-8DA0-20F24AD5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DC1541-ABF7-4611-912A-3F8C4284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818203-33CF-4D81-9E90-0AD64E31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DD4FE8-F0AA-493D-9D5B-4DAA51C9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607864-E9F4-4A21-9FB4-748E5A3B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F90FC0-E118-4FC5-9DA6-BC327B2A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A9A9E5-E208-4709-9275-A3BF5555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0ADA-CDEC-410A-8432-7DB2521D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4EF81C-9A98-459A-9A53-2AA9A95C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8D7D84-6A32-4FBA-9FDB-A89FE76B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990D15-6445-4E46-A272-7993D296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8C37DB-76A6-4CFD-9D37-C9E60191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5BA571-BB92-4BE3-BC63-F9527975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226FDA-5B50-461A-BD16-3D3447E1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293B50-6BA5-43A2-9088-FBFB16D1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90942E-6CFF-4AC0-9A91-C2AB890D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B58172-78EC-4057-9CBF-5898DD98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900C87-21C9-45B9-B2B6-1F80E4C1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055C-223B-4824-8757-D6AA1EE9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BB99A4-EFAF-4A19-A39B-8D177EF4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443A9E-50A1-490B-B279-9AEFE4FF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AF94FA-D3D3-456D-9C41-88E13A9D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4CAFDB-0C69-48A8-988F-246B3E71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8FC13E-1B93-4341-9249-BC3A9023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3DF588-774A-430C-A5AA-D37B0DE9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984A0E-CB73-4D78-84A4-92511C1B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ABE74C-E529-4612-BE81-12DB8517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886700-B8FF-4DB2-B595-F363B31D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C9061D-D4E1-4A71-99D2-FA7320B9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02BEB-519C-4F64-BB82-00ABDC6F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E42B40-242A-4B02-8D65-5E9A26A9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EB9AA5-1745-47CB-BAB3-EABB2776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80F522-446E-4FC2-B398-283BB45F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618A57-A408-423C-BAD4-E9EBEB7A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7BF4F9-6168-49F3-B6C6-EA499450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56FB16-D8D0-43C3-A469-5376AF17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F060E9-6CF1-460D-BEFC-14D75C8B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059592-DC7C-4812-B588-3BD45075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0ABF85-8512-45AB-AFDD-D6927A1E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E9DA9C-6199-42B2-B0C8-41AC27A4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F15E5-F85C-4F11-9CF8-26559CDC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535775-1BF7-4AEE-8B11-A56B9391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83690D-D5F5-43C7-BF95-7D47BAD2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A26E1E-5A75-480C-A021-FA4AC079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B1AB3D-67F8-48CC-8F6E-C122DD78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EE74C2-DFA4-496B-AE38-88F76DA1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623CD9-203A-4048-A688-E914CB76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1FC506-1F0D-44E7-9481-752D5B25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25696F-648C-46FE-987E-A43765D1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417E27-52B5-495A-941C-3E68AEB6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9EBE0A-6CD7-49CE-B6D3-9C72C024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99446-EAAB-4609-B5F4-713FBE03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1B812A-E34B-4C5E-9F21-C67DD71C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099AE7-5B9D-4573-BB5B-60390EBB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9C8390-C6FB-4957-A631-71BEBB90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67A859-4A20-4F61-8D9B-8DDEA56B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B0B480-C92A-4FC6-AE61-4415B000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203D16-D2C1-45E6-8457-E21E9425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01FF97-F872-4E0F-B86D-FF62B946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E44E6C-AF71-4090-A6BD-206A5E1D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802D79-C1D0-40D7-B004-E2610CA1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4A93B3-4297-4FC0-B1A3-CDD7C50F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2C3A9-EE1C-44A2-90D1-B071F388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0D64CE-EAB6-4AE1-8CF5-76B1F074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5D909B-754E-4896-BFEF-DE8A4C49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FCFBC2-4DA5-40DE-8261-2F1920C8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669964-58B6-4842-A914-6076B3A8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349D00-6444-4578-AAD0-9BA7C31C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550D73-8367-4E4C-8590-6A299B89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404575-F67B-4599-9B48-3C1E3800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A3AF6A-A742-4E39-9864-0D14C5E6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D7FED0-D830-4427-B95B-845535DE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63D0B7-C05D-4697-8DA5-F253AA68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C9410-5F1E-4150-970A-B1E38CF8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2F0787-A3B1-4D34-8071-D4B4FC43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7F8FB6-FCB5-4C27-AA48-D87A5E37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BCFB8D-6423-4E7B-90BB-FA6CB4B4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FB8024-E20B-4EF3-BC79-5F46CE2E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0F3BEE-6A8A-44D6-897B-C7A45354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58CA69-C91E-4487-A1FC-65883DFF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DDD90C-B5BD-44EB-B1B3-ACF2C894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271354-644F-44CB-B899-A806234F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D395B8-6A32-4E35-BB12-0350E354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753361-64DE-4C94-9152-2C9DCE67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9C0-DAE4-4251-9858-F1E1AB2D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10F5E-3B6B-4D89-9488-0262D53E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D92BF1-84B2-45A2-BEDB-A48A6BB3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97698E-E281-474C-971A-65F4BAF9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EB2E7E-EB12-4FC8-B5A2-204177B7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83F070-7F14-40F0-AEC7-A2BCF3A3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7A2809-D70E-4AFA-9538-3BAA0DA2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9A6445-1790-4A86-9B2A-A14E13DE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E4F822-EAEE-402D-B83F-2517C87A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F888B3-780C-466F-863D-388039C1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086375-D3F7-49E8-B67A-B5E1640E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C2F256-E478-4569-ABD4-A850F4A3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BAC34-96A6-481F-93DE-02E0A4AA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9FE456-4DB3-4401-9651-523C830F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8C69D7-28F9-4C67-86A6-6C0EF0E7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0F1EA2-9915-497D-B7DB-D4C70594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DEE8B-6AD0-43B0-8F45-8A3A46E8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A0252-CF7A-4C60-8B9E-EE0241B8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F0696-0F79-4E02-A04F-195A81F6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0B0A6-6181-49CE-AECF-F03FC24A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F2EA3-F92C-4288-91C1-45B70D90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7750A-F2B3-4C12-98E2-B27F65F9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1C5E2-CA4B-4A04-9A04-AF331973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04E63-B59A-4EDF-823C-17C8289A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7B3-9552-46E0-9896-31615584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F936C-C085-4E56-AB30-4EBDC50F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05A92-6F1F-466A-AAE7-F0AB6D40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D489F-515D-4E60-B7FA-DA7A2106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5F418-2643-40E6-A39F-611CA16A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77510-CCF0-4C2B-94A5-B04D99FB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50978-2B62-430A-9136-51AA3B15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3B727-102A-4825-A7C3-D2D87F90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73D68-E2D8-4727-9509-1AD4A2D5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3EA1D-C3B5-4F34-AC56-E59BB1CD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088E8-BBBA-4B92-90D0-EA696E64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364-A77E-4E25-96A6-1E7B74B7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AAD26-4C76-4421-860C-EB2563AE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048ED-A56B-4142-BF77-DAEC804C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975F2-68CC-4008-8B6D-1CD4F6DF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89333-F31F-45DF-AC21-98B15C58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C38DE-DD0B-40FF-8CFE-BD861FCE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00319-7C2A-474F-92F7-432DD45E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DA080-BF1E-4507-9DC4-0870E795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89767-E07D-4E21-BEF4-ACD9229E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48E13-8718-4A0F-950E-6299E62A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3741A-3D7F-4AE3-BFE0-0C9AF071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6EC-5899-4C03-B4C8-61993174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AF716-2CAD-493B-A247-E3DCB538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C2F41-85DD-49E4-ADAE-26BA7496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09EA7-EA72-4499-90FD-80D8E274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DD55D-DDC8-46AE-8250-3AD7FEAC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712CB-7540-4BA5-84E9-47A561D1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BB24F-6410-4E1C-8BCF-6F0EF2FB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930CD-3BD5-4CEA-9C84-6C6BF9DD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78EA3-586B-4883-B78E-A2F4527B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1E9FB-C829-433E-AB6F-36AFDAF2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D8FCF-F2E0-4BFB-8FDE-5AEF503B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531-F500-4B57-8C98-B35C6C8D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48632-C619-4B86-AB30-B7BA46AC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8FF95-CAB2-46BF-BA8A-F13ABDD8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F6F6B-5E72-4995-9CDD-686ED419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9F8CD-9304-4B98-9122-2EE9DBA7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65EC8-E6AC-4300-99F3-4555F2C4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2649F-F24E-432F-B9F3-B47697A1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7EDD2-EB9B-4738-8280-7789811B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A7CF1-0072-4216-A057-28514142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14713-2EC3-4ED7-A3A5-DCDFB3A1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AC505-AE6F-4815-84D1-EB371E88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5A9-03B8-46CE-86C3-DA76BA61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C3891-6CD4-498D-B758-75423CCD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67513-45B9-4870-9941-B0AA881F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75B19-FD6A-418E-8ED7-870CF99B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9D098-7AC8-4ACA-8DF4-C64E5A15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D906B-277E-4ED4-A02D-77A3FCB9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A2619-807A-4777-80AB-595B427E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EF2D2-8880-425A-B615-1BE699A6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07B74-F336-4DB5-A560-952D1BC2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C42EE-722F-4930-8B2B-D1BFF55A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85EA1-6276-49A0-8FB9-B54257D6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59E-AA3F-424A-A04B-622E817C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81909-15CC-4DB9-8B6C-BA5CA7CC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99277-4527-4D48-A1C4-9BB3901D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84A03-6E6E-4FCC-861F-E182877C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E1E7A-D77C-4C34-BC92-82AB0884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B7DE1-7544-41FC-BE3B-EE1A1122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5763A-A68D-4C2C-8CF9-F70DF239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5B8C5-DA6B-4656-BBAC-E6A71A81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0A4D3-006A-4F7A-8447-B6CBE4C9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DFA70-E53F-43FF-B7DE-B455E052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742A0-E475-42FF-9305-748DCBF1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CFD0-FA61-48D8-A7CE-667162462D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519C-12BC-435C-B0F7-245466BBA0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698B-380F-45BF-93A7-F26048121F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7BB6-78AC-4F19-9770-B65B9365FB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70CF-3084-4631-BA06-9079C5EA3C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D419-EB09-4924-946B-6D021906AB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31A1-1220-4494-95A9-328EA779D2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710C-5B37-467C-81CE-32C4C47A7C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4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0E72-0686-416B-94C4-DE85EADB41B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5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5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2875-BA1F-46B0-9B13-318B55B7748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5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5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88F0-05D5-4FCC-ACC3-610AEFE45F3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77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78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0D39-65FF-482F-A3E8-D80C160ED5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dt" idx="58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sldNum" idx="6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54BE-81DC-44DD-A52E-889B06C12B0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6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6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EDB2-FD2E-4565-9FB3-2D4E38EF44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dt" idx="6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6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C9BC-9618-4B02-87AA-9F57A8F410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6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6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A5E1-FB05-4B5C-BC40-DF2976CD795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7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7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BB1B-8CC7-4621-ADFF-A4F72A70C00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7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7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52D3-D982-465C-8C2B-C293C67845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7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7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3F22-C290-47AB-84A2-A686343010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1312-862D-4258-8B32-F8BB63DAD4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B855-029B-4159-B9BB-103C2C6930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AFD0-9E92-4802-868D-AC41436BED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DF1B-B35C-42FC-B3B1-EAC12BE257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6FC4-5A9D-4F63-91BF-0F10C752A0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0B4F-A0DA-4B12-BE2E-0E444F2068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9AEF-D9B7-4BE8-8522-7F6CCCEF89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Урок 2. 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профессия? Выбор проф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 txBox="1"/>
          <p:nvPr/>
        </p:nvSpPr>
        <p:spPr>
          <a:xfrm>
            <a:off x="684360" y="981000"/>
            <a:ext cx="81547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Профессия (лат. </a:t>
            </a:r>
            <a:r>
              <a:rPr b="0" lang="en-US" sz="4400" spc="-1" strike="noStrike">
                <a:solidFill>
                  <a:srgbClr val="8c0039"/>
                </a:solidFill>
                <a:latin typeface="Arial"/>
              </a:rPr>
              <a:t>Professio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 род трудовой деятельности, являющийся обычно источником существования и требующий определенной квалифик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8" descr="C:\Program Files\Common Files\Microsoft Shared\Clipart\cagcat50\PE02002_.wmf"/>
          <p:cNvPicPr/>
          <p:nvPr/>
        </p:nvPicPr>
        <p:blipFill>
          <a:blip r:embed="rId1"/>
          <a:stretch/>
        </p:blipFill>
        <p:spPr>
          <a:xfrm>
            <a:off x="6659640" y="4653000"/>
            <a:ext cx="19778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4360" y="228240"/>
            <a:ext cx="8154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Профессия характеризуется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539640" y="1600200"/>
            <a:ext cx="829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ует специальной подготовки, обуч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куется человеком регуляр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ужит источником средств к существова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1"/>
          <a:stretch/>
        </p:blipFill>
        <p:spPr>
          <a:xfrm>
            <a:off x="7497720" y="5180040"/>
            <a:ext cx="1646280" cy="16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9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конкретный вид деятельности в рамках какой-либо профессии. </a:t>
            </a:r>
            <a:br>
              <a:rPr sz="40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457200" y="386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Должность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это конкретный трудовой пост в организа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пределите: профессия, специальность, должность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оляр, шахтер, летчик-испытатель, шофер, хирург, учитель, парикмахер, швея, директор магазина, судья, пианист, продавец книг, водитель троллейбуса, инженер-конструктор, врач, учитель математики, завуч, менеджер, заведующий отделением, ландшафтный дизайнер, веб-дизайнер, милиционер, психол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6868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выборе профессии необходимо учитывать  фактор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Oval 4">
            <a:hlinkClick r:id="rId1" action="ppaction://hlinksldjump"/>
          </p:cNvPr>
          <p:cNvSpPr/>
          <p:nvPr/>
        </p:nvSpPr>
        <p:spPr>
          <a:xfrm>
            <a:off x="179280" y="1341360"/>
            <a:ext cx="2592360" cy="9144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Oval 5">
            <a:hlinkClick r:id="rId2" action="ppaction://hlinksldjump"/>
          </p:cNvPr>
          <p:cNvSpPr/>
          <p:nvPr/>
        </p:nvSpPr>
        <p:spPr>
          <a:xfrm>
            <a:off x="3203640" y="3500280"/>
            <a:ext cx="2663640" cy="9144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Oval 6">
            <a:hlinkClick r:id="rId3" action="ppaction://hlinksldjump"/>
          </p:cNvPr>
          <p:cNvSpPr/>
          <p:nvPr/>
        </p:nvSpPr>
        <p:spPr>
          <a:xfrm>
            <a:off x="6932520" y="1341360"/>
            <a:ext cx="2211480" cy="9144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Rectangle 22"/>
          <p:cNvSpPr/>
          <p:nvPr/>
        </p:nvSpPr>
        <p:spPr>
          <a:xfrm>
            <a:off x="0" y="2349360"/>
            <a:ext cx="3635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лания лич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ес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клон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Rectangle 23"/>
          <p:cNvSpPr/>
          <p:nvPr/>
        </p:nvSpPr>
        <p:spPr>
          <a:xfrm>
            <a:off x="6084720" y="2421000"/>
            <a:ext cx="30592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зможности лич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особ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 зн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сихологическ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обенн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ояние здоров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Rectangle 24"/>
          <p:cNvSpPr/>
          <p:nvPr/>
        </p:nvSpPr>
        <p:spPr>
          <a:xfrm>
            <a:off x="2484360" y="4653000"/>
            <a:ext cx="331812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треб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ынка тр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др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9" name="Picture 25" descr="j0149481"/>
          <p:cNvPicPr/>
          <p:nvPr/>
        </p:nvPicPr>
        <p:blipFill>
          <a:blip r:embed="rId4"/>
          <a:stretch/>
        </p:blipFill>
        <p:spPr>
          <a:xfrm rot="1464600">
            <a:off x="178920" y="4292640"/>
            <a:ext cx="2160720" cy="2149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знательный выбор профессии (специальности) основывается на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ях о мире професс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ях о выбираемой конкретной професс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учении своих интере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учении своих способ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и своих сильных и слабых качест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янии своего здоровь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те материальных условий семь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те ситуации на рынке тру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шибки при выборе профессии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086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ытующие мнения о престижности профе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влечение внешней или частной стороной профе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знание мира профессий, выбор «за компанию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умение разбираться в своих способностях, личных качеств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знание пути получения профе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нос отношения к человеку – представителю той или иной профессии – на отношение к самой профе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ождествление школьного учебного предмета с професси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4"/>
          <p:cNvSpPr/>
          <p:nvPr/>
        </p:nvSpPr>
        <p:spPr>
          <a:xfrm>
            <a:off x="1403280" y="1460520"/>
            <a:ext cx="676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«Если вы удачно выберите труд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вложите в него свою душу,                                                                                             то счастье само вас отыщ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бо возможность занима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              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любимым делом, —главное и непременное условие  счастья человек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. Д. Ушинск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7:36:28Z</dcterms:created>
  <dc:creator>A0001</dc:creator>
  <dc:description/>
  <dc:language>en-US</dc:language>
  <cp:lastModifiedBy>ирина</cp:lastModifiedBy>
  <dcterms:modified xsi:type="dcterms:W3CDTF">2010-12-18T09:56:58Z</dcterms:modified>
  <cp:revision>27</cp:revision>
  <dc:subject/>
  <dc:title>Секреты выбора профессии</dc:title>
</cp:coreProperties>
</file>